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FB54E-651A-4E49-9914-79F821DA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08735-A8B3-4E69-B7CB-8B7FF635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1A195-1101-45D4-B49F-6119DB2A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FADA9-8294-4764-B2F3-41691D6C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0950-C104-4FA0-975C-685ED299C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F9A3-2F1A-48C6-ACD1-6EA4EF3E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8D17-85DB-4B15-BC05-C9AEBD91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8961-5291-420D-8313-D3925CCA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D593-1F11-4D82-A031-B887BA16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342F-797B-4FAA-9F31-33882376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3E02-3B30-4530-8ED1-37D1787A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95E2D-D5CB-41BA-A6F8-28651323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79EC-F8F8-45B2-9CD1-143ACD7C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8E2A-377F-48F1-AC2C-428FB3E8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7CEF-05D7-4152-9565-D4B8D65E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F513-1ABF-4897-A890-3A8F5BE51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0E15-B36A-43BE-B137-A360D20C6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3310A-0BF0-4EA4-8F98-861E1AF3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1434C-9530-464E-8F9C-1B156F5E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FCB62-8F99-409F-80C5-AF02353D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2F369-63A4-4EF5-8B97-699B91A9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E9635-3EA1-497A-99E5-AB93A0A9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852D1-4C43-4A27-B7F4-6727E4A1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2D480-1C97-4C07-8BAC-18613346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7765-310A-4D89-B7A8-78DCC535ADB5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D41B-F7CE-4A79-90DD-DA04AEE0B60C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22500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9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(1037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Вечерни сенки пада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тъмни небес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цветята свежи тръпна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д нощната роса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Боже свят, пред Теб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е молим в тоя час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Чада Си Ти погледн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чуй им тихий глас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223560"/>
            <a:ext cx="100821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мир, о, Боже, Твоя мир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в нашите души всели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нощен страх и зла бед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рцата ни Ти защит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ри ни отдих от труд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скръбта ни Ти успокой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мъките на трудний ден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мени със тих пок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541440" y="528120"/>
            <a:ext cx="100821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 От нас недей, о, Бож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връща лика Св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олитвеният наш зов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стигне трона Тв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сияние Ти отгор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ъсни зловещий мрак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с надежда за успех в край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рца ни осияй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541440" y="223560"/>
            <a:ext cx="100821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мир, о, Боже, Твоя мир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в нашите души всели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нощен страх и зла бед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рцата ни Ти защит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ри ни отдих от труд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скръбта ни Ти успокой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мъките на трудний ден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мени със тих пок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27792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Лъчите дневни гасна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вехне цвят след цвят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любов, надежда, радос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увяхват в този свят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о вечно трай сал кой 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д Твоя мил покров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О, дай ни вяра в Теб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в вечната Любов! :]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541440" y="223560"/>
            <a:ext cx="100821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мир, о, Боже, Твоя мир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в нашите души всели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нощен страх и зла бед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рцата ни Ти защит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ри ни отдих от труд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скръбта ни Ти успокой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мъките на трудний ден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мени със тих пок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2-08-03T15:56:44Z</dcterms:modified>
  <cp:revision>229</cp:revision>
  <dc:subject/>
  <dc:title>Slide 1</dc:title>
</cp:coreProperties>
</file>